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691813" cy="7451725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728640" y="744120"/>
            <a:ext cx="53402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D85FD-828D-4A3B-B018-B7DFAA6E8C7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728640" y="744480"/>
            <a:ext cx="534024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egnaposto numero diapositiva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0315D-BA09-4F1F-B99E-3917E8D780F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2BC9-ABB3-4031-B7F4-DF6958EFC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4960" y="298080"/>
            <a:ext cx="9623520" cy="12430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34960" y="1739520"/>
            <a:ext cx="9623520" cy="2345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34960" y="4308480"/>
            <a:ext cx="9623520" cy="2345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DBBC-AE92-42F1-BE0D-316A87250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960" y="298080"/>
            <a:ext cx="9623520" cy="12430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34960" y="1739520"/>
            <a:ext cx="4696200" cy="2345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66240" y="1739520"/>
            <a:ext cx="4696200" cy="2345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34960" y="4308480"/>
            <a:ext cx="4696200" cy="2345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66240" y="4308480"/>
            <a:ext cx="4696200" cy="2345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C256-8DC8-4A4B-8673-AF46DAD2E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4960" y="298080"/>
            <a:ext cx="9623520" cy="12430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34960" y="1739520"/>
            <a:ext cx="3098520" cy="2345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88640" y="1739520"/>
            <a:ext cx="3098520" cy="2345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42680" y="1739520"/>
            <a:ext cx="3098520" cy="2345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34960" y="4308480"/>
            <a:ext cx="3098520" cy="2345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88640" y="4308480"/>
            <a:ext cx="3098520" cy="2345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42680" y="4308480"/>
            <a:ext cx="3098520" cy="2345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9048-D010-49D7-A6E6-2884652C4C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4960" y="298080"/>
            <a:ext cx="9623520" cy="12430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34960" y="1739520"/>
            <a:ext cx="9623520" cy="491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24"/>
              </a:spcBef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3B5B1-D8F9-4A6A-A8E7-BD987548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4960" y="298080"/>
            <a:ext cx="9623520" cy="12430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34960" y="1739520"/>
            <a:ext cx="9623520" cy="49179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091A-27E3-42E5-B79B-ABC0CBDC6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4960" y="298080"/>
            <a:ext cx="9623520" cy="12430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4960" y="1739520"/>
            <a:ext cx="4696200" cy="49179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66240" y="1739520"/>
            <a:ext cx="4696200" cy="49179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CDA14-78ED-40E0-8606-C26288F97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960" y="298080"/>
            <a:ext cx="9623520" cy="12430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D6CA6-E358-4750-9B9F-BF6DE297B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4960" y="298080"/>
            <a:ext cx="9623520" cy="57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24"/>
              </a:spcBef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0589-1FFD-4733-89D6-CB6ADDC3A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960" y="298080"/>
            <a:ext cx="9623520" cy="12430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34960" y="1739520"/>
            <a:ext cx="4696200" cy="2345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66240" y="1739520"/>
            <a:ext cx="4696200" cy="49179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34960" y="4308480"/>
            <a:ext cx="4696200" cy="2345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D55CA-1DDA-4886-B006-FEA9B9EEB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4960" y="298080"/>
            <a:ext cx="9623520" cy="12430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34960" y="1739520"/>
            <a:ext cx="4696200" cy="49179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66240" y="1739520"/>
            <a:ext cx="4696200" cy="2345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66240" y="4308480"/>
            <a:ext cx="4696200" cy="2345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344F-CFFC-4B26-A036-CB8753E02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4960" y="298080"/>
            <a:ext cx="9623520" cy="12430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34960" y="1739520"/>
            <a:ext cx="4696200" cy="2345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66240" y="1739520"/>
            <a:ext cx="4696200" cy="2345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34960" y="4308480"/>
            <a:ext cx="9623520" cy="23457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indent="0">
              <a:spcBef>
                <a:spcPts val="924"/>
              </a:spcBef>
              <a:buNone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A963-5DF7-473E-A9A7-7AB46EBB4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4960" y="298080"/>
            <a:ext cx="9623520" cy="124308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ctr">
            <a:noAutofit/>
          </a:bodyPr>
          <a:p>
            <a:pPr indent="0" algn="ctr">
              <a:buNone/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34960" y="1739520"/>
            <a:ext cx="9623520" cy="491796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rmAutofit/>
          </a:bodyPr>
          <a:p>
            <a:pPr marL="396720" indent="-39672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1" marL="858960" indent="-33048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2" marL="1322280" indent="-264960">
              <a:spcBef>
                <a:spcPts val="924"/>
              </a:spcBef>
              <a:buClr>
                <a:srgbClr val="000000"/>
              </a:buClr>
              <a:buFont typeface="Arial"/>
              <a:buChar char="•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3" marL="1851120" indent="-265320">
              <a:spcBef>
                <a:spcPts val="924"/>
              </a:spcBef>
              <a:buClr>
                <a:srgbClr val="000000"/>
              </a:buClr>
              <a:buFont typeface="Arial"/>
              <a:buChar char="–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4" marL="2379600" indent="-2649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5" marL="2379600" indent="-2649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lvl="6" marL="2379600" indent="-264960">
              <a:spcBef>
                <a:spcPts val="924"/>
              </a:spcBef>
              <a:buClr>
                <a:srgbClr val="000000"/>
              </a:buClr>
              <a:buFont typeface="Arial"/>
              <a:buChar char="»"/>
              <a:tabLst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34960" y="6786360"/>
            <a:ext cx="2494080" cy="51732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52920" y="6786360"/>
            <a:ext cx="3387600" cy="51732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64400" y="6786360"/>
            <a:ext cx="2494080" cy="517320"/>
          </a:xfrm>
          <a:prstGeom prst="rect">
            <a:avLst/>
          </a:prstGeom>
          <a:noFill/>
          <a:ln w="0">
            <a:noFill/>
          </a:ln>
        </p:spPr>
        <p:txBody>
          <a:bodyPr lIns="105840" rIns="105840" tIns="52920" bIns="5292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1D852-0C49-4F8E-9F5A-CDA72949B072}" type="slidenum">
              <a:rPr b="0" lang="it-IT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jpeg"/><Relationship Id="rId6" Type="http://schemas.openxmlformats.org/officeDocument/2006/relationships/image" Target="../media/image4.jpeg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-291960" y="0"/>
            <a:ext cx="11218680" cy="1634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1"/>
          <p:cNvSpPr/>
          <p:nvPr/>
        </p:nvSpPr>
        <p:spPr>
          <a:xfrm>
            <a:off x="-249120" y="7369200"/>
            <a:ext cx="11164680" cy="12708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15"/>
          <p:cNvSpPr/>
          <p:nvPr/>
        </p:nvSpPr>
        <p:spPr>
          <a:xfrm>
            <a:off x="7616880" y="174600"/>
            <a:ext cx="0" cy="42735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16"/>
          <p:cNvSpPr/>
          <p:nvPr/>
        </p:nvSpPr>
        <p:spPr>
          <a:xfrm>
            <a:off x="7616880" y="4389480"/>
            <a:ext cx="0" cy="29811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WordArt 26"/>
          <p:cNvSpPr txBox="1"/>
          <p:nvPr/>
        </p:nvSpPr>
        <p:spPr>
          <a:xfrm>
            <a:off x="8505720" y="5743440"/>
            <a:ext cx="1327320" cy="2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alibri"/>
              </a:rPr>
              <a:t>Voghera</a:t>
            </a:r>
            <a:endParaRPr b="0" lang="en-US" sz="21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alibri"/>
              <a:ea typeface="Calibri"/>
            </a:endParaRPr>
          </a:p>
        </p:txBody>
      </p:sp>
      <p:sp>
        <p:nvSpPr>
          <p:cNvPr id="53" name="WordArt 35"/>
          <p:cNvSpPr txBox="1"/>
          <p:nvPr/>
        </p:nvSpPr>
        <p:spPr>
          <a:xfrm>
            <a:off x="7792920" y="3510000"/>
            <a:ext cx="2772000" cy="37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Berlin Sans FB"/>
              </a:rPr>
              <a:t>Volontariato a Voghera</a:t>
            </a:r>
            <a:endParaRPr b="0" lang="en-US" sz="2100" spc="1" strike="noStrike">
              <a:ln w="648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Berlin Sans FB"/>
              <a:ea typeface="Berlin Sans FB"/>
            </a:endParaRPr>
          </a:p>
        </p:txBody>
      </p:sp>
      <p:sp>
        <p:nvSpPr>
          <p:cNvPr id="54" name="WordArt 36"/>
          <p:cNvSpPr txBox="1"/>
          <p:nvPr/>
        </p:nvSpPr>
        <p:spPr>
          <a:xfrm>
            <a:off x="7969320" y="4043520"/>
            <a:ext cx="241920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erlin Sans FB"/>
              </a:rPr>
              <a:t>insieme ai cittadini</a:t>
            </a:r>
            <a:endParaRPr b="0" lang="en-US" sz="21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erlin Sans FB"/>
              <a:ea typeface="Berlin Sans FB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Berlin Sans FB"/>
              </a:rPr>
              <a:t>contro le povertà</a:t>
            </a:r>
            <a:endParaRPr b="0" lang="en-US" sz="21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Berlin Sans FB"/>
              <a:ea typeface="Berlin Sans FB"/>
            </a:endParaRPr>
          </a:p>
        </p:txBody>
      </p:sp>
      <p:sp>
        <p:nvSpPr>
          <p:cNvPr id="55" name="Text Box 37"/>
          <p:cNvSpPr/>
          <p:nvPr/>
        </p:nvSpPr>
        <p:spPr>
          <a:xfrm>
            <a:off x="7867800" y="6535800"/>
            <a:ext cx="2592360" cy="398880"/>
          </a:xfrm>
          <a:prstGeom prst="rect">
            <a:avLst/>
          </a:prstGeom>
          <a:solidFill>
            <a:srgbClr val="d9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6c"/>
                </a:solidFill>
                <a:latin typeface="Calibri"/>
              </a:rPr>
              <a:t>Sabato 1 ottobre 2011</a:t>
            </a:r>
            <a:r>
              <a:rPr b="1" i="1" lang="it-IT" sz="1800" spc="-1" strike="noStrike">
                <a:solidFill>
                  <a:srgbClr val="0000a2"/>
                </a:solidFill>
                <a:latin typeface="Bell M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8" descr="volontariato"/>
          <p:cNvPicPr/>
          <p:nvPr/>
        </p:nvPicPr>
        <p:blipFill>
          <a:blip r:embed="rId1"/>
          <a:stretch/>
        </p:blipFill>
        <p:spPr>
          <a:xfrm>
            <a:off x="8875800" y="1563840"/>
            <a:ext cx="1224000" cy="866520"/>
          </a:xfrm>
          <a:prstGeom prst="rect">
            <a:avLst/>
          </a:prstGeom>
          <a:ln w="0">
            <a:noFill/>
          </a:ln>
        </p:spPr>
      </p:pic>
      <p:sp>
        <p:nvSpPr>
          <p:cNvPr id="57" name="WordArt 39"/>
          <p:cNvSpPr txBox="1"/>
          <p:nvPr/>
        </p:nvSpPr>
        <p:spPr>
          <a:xfrm>
            <a:off x="7786800" y="2070000"/>
            <a:ext cx="2808000" cy="131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Top">
              <a:avLst>
                <a:gd name="adj" fmla="val 3321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latin typeface="Berlin Sans FB Demi"/>
              </a:rPr>
              <a:t>festiVOL</a:t>
            </a:r>
            <a:endParaRPr b="1" lang="en-US" sz="21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latin typeface="Berlin Sans FB Demi"/>
              <a:ea typeface="Berlin Sans FB Demi"/>
            </a:endParaRPr>
          </a:p>
        </p:txBody>
      </p:sp>
      <p:pic>
        <p:nvPicPr>
          <p:cNvPr id="58" name="Picture 42" descr=""/>
          <p:cNvPicPr/>
          <p:nvPr/>
        </p:nvPicPr>
        <p:blipFill>
          <a:blip r:embed="rId4"/>
          <a:stretch/>
        </p:blipFill>
        <p:spPr>
          <a:xfrm>
            <a:off x="7199280" y="471600"/>
            <a:ext cx="393840" cy="503280"/>
          </a:xfrm>
          <a:prstGeom prst="rect">
            <a:avLst/>
          </a:prstGeom>
          <a:ln w="0">
            <a:noFill/>
          </a:ln>
        </p:spPr>
      </p:pic>
      <p:sp>
        <p:nvSpPr>
          <p:cNvPr id="59" name="Text Box 43"/>
          <p:cNvSpPr/>
          <p:nvPr/>
        </p:nvSpPr>
        <p:spPr>
          <a:xfrm>
            <a:off x="7647120" y="457200"/>
            <a:ext cx="2663640" cy="7333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>
                <a:solidFill>
                  <a:srgbClr val="000000"/>
                </a:solidFill>
                <a:latin typeface="Bell MT"/>
              </a:rPr>
              <a:t>Consulta per i Problemi Sociali del Comune di Vogh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WordArt 44"/>
          <p:cNvSpPr txBox="1"/>
          <p:nvPr/>
        </p:nvSpPr>
        <p:spPr>
          <a:xfrm>
            <a:off x="8143920" y="4878360"/>
            <a:ext cx="2049480" cy="21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1" strike="noStrike">
                <a:ln w="648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alibri"/>
              </a:rPr>
              <a:t>PROGRAMMA</a:t>
            </a:r>
            <a:endParaRPr b="0" lang="en-US" sz="2100" spc="1" strike="noStrike">
              <a:ln w="648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alibri"/>
              <a:ea typeface="Calibri"/>
            </a:endParaRPr>
          </a:p>
        </p:txBody>
      </p:sp>
      <p:sp>
        <p:nvSpPr>
          <p:cNvPr id="61" name="Text Box 47"/>
          <p:cNvSpPr/>
          <p:nvPr/>
        </p:nvSpPr>
        <p:spPr>
          <a:xfrm>
            <a:off x="3978360" y="4146480"/>
            <a:ext cx="273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a2"/>
                </a:solidFill>
                <a:latin typeface="Berlin Sans FB"/>
              </a:rPr>
              <a:t>In collaborazione c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3"/>
          <p:cNvSpPr/>
          <p:nvPr/>
        </p:nvSpPr>
        <p:spPr>
          <a:xfrm>
            <a:off x="289080" y="5022720"/>
            <a:ext cx="257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66ff"/>
                </a:solidFill>
                <a:latin typeface="Berlin Sans FB"/>
              </a:rPr>
              <a:t>L’unità si realizza nella                           diversit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7" descr="volontariato"/>
          <p:cNvPicPr/>
          <p:nvPr/>
        </p:nvPicPr>
        <p:blipFill>
          <a:blip r:embed="rId5"/>
          <a:stretch/>
        </p:blipFill>
        <p:spPr>
          <a:xfrm rot="21172200">
            <a:off x="946080" y="3987360"/>
            <a:ext cx="1368360" cy="96840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8"/>
          <p:cNvSpPr/>
          <p:nvPr/>
        </p:nvSpPr>
        <p:spPr>
          <a:xfrm>
            <a:off x="407880" y="4892760"/>
            <a:ext cx="2303640" cy="1396800"/>
          </a:xfrm>
          <a:custGeom>
            <a:avLst/>
            <a:gdLst>
              <a:gd name="textAreaLeft" fmla="*/ 537120 w 2303640"/>
              <a:gd name="textAreaRight" fmla="*/ 1765800 w 2303640"/>
              <a:gd name="textAreaTop" fmla="*/ 147240 h 1396800"/>
              <a:gd name="textAreaBottom" fmla="*/ 884520 h 139680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69"/>
          <p:cNvSpPr/>
          <p:nvPr/>
        </p:nvSpPr>
        <p:spPr>
          <a:xfrm>
            <a:off x="3978360" y="5800680"/>
            <a:ext cx="2736720" cy="82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a2"/>
                </a:solidFill>
                <a:latin typeface="Berlin Sans FB"/>
              </a:rPr>
              <a:t>Patrocinio d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33cc"/>
                </a:solidFill>
                <a:latin typeface="Berlin Sans FB"/>
              </a:rPr>
              <a:t>COMUNE DI VOGHERA  </a:t>
            </a:r>
            <a:r>
              <a:rPr b="0" lang="it-IT" sz="1300" spc="-1" strike="noStrike">
                <a:solidFill>
                  <a:srgbClr val="0033cc"/>
                </a:solidFill>
                <a:latin typeface="Berlin Sans FB"/>
              </a:rPr>
              <a:t>Assessorato Politiche Sociali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70" descr="csv_g"/>
          <p:cNvPicPr/>
          <p:nvPr/>
        </p:nvPicPr>
        <p:blipFill>
          <a:blip r:embed="rId6"/>
          <a:stretch/>
        </p:blipFill>
        <p:spPr>
          <a:xfrm>
            <a:off x="4871880" y="4429080"/>
            <a:ext cx="954360" cy="954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1" descr="logo_anno_europeo_volontariato"/>
          <p:cNvPicPr/>
          <p:nvPr/>
        </p:nvPicPr>
        <p:blipFill>
          <a:blip r:embed="rId7"/>
          <a:stretch/>
        </p:blipFill>
        <p:spPr>
          <a:xfrm>
            <a:off x="271440" y="2259000"/>
            <a:ext cx="2610000" cy="1251000"/>
          </a:xfrm>
          <a:prstGeom prst="rect">
            <a:avLst/>
          </a:prstGeom>
          <a:ln w="0">
            <a:noFill/>
          </a:ln>
        </p:spPr>
      </p:pic>
      <p:sp>
        <p:nvSpPr>
          <p:cNvPr id="68" name="WordArt 72"/>
          <p:cNvSpPr txBox="1"/>
          <p:nvPr/>
        </p:nvSpPr>
        <p:spPr>
          <a:xfrm>
            <a:off x="8299440" y="6102360"/>
            <a:ext cx="1760400" cy="193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Calibri"/>
              </a:rPr>
              <a:t>Piazza Duomo</a:t>
            </a:r>
            <a:endParaRPr b="0" lang="en-US" sz="21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Calibri"/>
              <a:ea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WordArt 12"/>
          <p:cNvSpPr txBox="1"/>
          <p:nvPr/>
        </p:nvSpPr>
        <p:spPr>
          <a:xfrm>
            <a:off x="7937640" y="237960"/>
            <a:ext cx="218736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d9ecff"/>
                </a:solidFill>
                <a:latin typeface="Arial"/>
              </a:rPr>
              <a:t>Associazioni partecipanti</a:t>
            </a:r>
            <a:endParaRPr b="0" lang="en-US" sz="2100" spc="1" strike="noStrike">
              <a:ln w="12600">
                <a:solidFill>
                  <a:srgbClr val="0000ff"/>
                </a:solidFill>
                <a:miter/>
              </a:ln>
              <a:solidFill>
                <a:srgbClr val="d9ecff"/>
              </a:solidFill>
              <a:latin typeface="Arial"/>
              <a:ea typeface="Arial"/>
            </a:endParaRPr>
          </a:p>
        </p:txBody>
      </p:sp>
      <p:sp>
        <p:nvSpPr>
          <p:cNvPr id="70" name="Rectangle 15"/>
          <p:cNvSpPr/>
          <p:nvPr/>
        </p:nvSpPr>
        <p:spPr>
          <a:xfrm>
            <a:off x="0" y="0"/>
            <a:ext cx="10693440" cy="163440"/>
          </a:xfrm>
          <a:prstGeom prst="rect">
            <a:avLst/>
          </a:prstGeom>
          <a:solidFill>
            <a:srgbClr val="0066ff"/>
          </a:solidFill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9"/>
          <p:cNvSpPr/>
          <p:nvPr/>
        </p:nvSpPr>
        <p:spPr>
          <a:xfrm>
            <a:off x="-31680" y="7361280"/>
            <a:ext cx="10782360" cy="92160"/>
          </a:xfrm>
          <a:prstGeom prst="rect">
            <a:avLst/>
          </a:prstGeom>
          <a:solidFill>
            <a:srgbClr val="99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21"/>
          <p:cNvSpPr/>
          <p:nvPr/>
        </p:nvSpPr>
        <p:spPr>
          <a:xfrm>
            <a:off x="7448400" y="573120"/>
            <a:ext cx="3189600" cy="6653160"/>
          </a:xfrm>
          <a:custGeom>
            <a:avLst/>
            <a:gdLst>
              <a:gd name="textAreaLeft" fmla="*/ 155520 w 3189600"/>
              <a:gd name="textAreaRight" fmla="*/ 3034080 w 3189600"/>
              <a:gd name="textAreaTop" fmla="*/ 155520 h 6653160"/>
              <a:gd name="textAreaBottom" fmla="*/ 6497640 h 6653160"/>
            </a:gdLst>
            <a:ahLst/>
            <a:rect l="textAreaLeft" t="textAreaTop" r="textAreaRight" b="textAreaBottom"/>
            <a:pathLst>
              <a:path w="21600" h="45053">
                <a:moveTo>
                  <a:pt x="3600" y="0"/>
                </a:moveTo>
                <a:arcTo wR="3600" hR="3600" stAng="16200000" swAng="-5400000"/>
                <a:lnTo>
                  <a:pt x="0" y="41453"/>
                </a:lnTo>
                <a:arcTo wR="3600" hR="3600" stAng="10800000" swAng="-5400000"/>
                <a:lnTo>
                  <a:pt x="18000" y="450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WordArt 32"/>
          <p:cNvSpPr txBox="1"/>
          <p:nvPr/>
        </p:nvSpPr>
        <p:spPr>
          <a:xfrm>
            <a:off x="3965400" y="701640"/>
            <a:ext cx="2737080" cy="1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d9ecff"/>
                </a:solidFill>
                <a:latin typeface="Arial"/>
              </a:rPr>
              <a:t>Sabato 1 ottobre 2011</a:t>
            </a:r>
            <a:endParaRPr b="0" lang="en-US" sz="2100" spc="1" strike="noStrike">
              <a:ln w="12600">
                <a:solidFill>
                  <a:srgbClr val="0000ff"/>
                </a:solidFill>
                <a:miter/>
              </a:ln>
              <a:solidFill>
                <a:srgbClr val="d9ecff"/>
              </a:solidFill>
              <a:latin typeface="Arial"/>
              <a:ea typeface="Arial"/>
            </a:endParaRPr>
          </a:p>
        </p:txBody>
      </p:sp>
      <p:sp>
        <p:nvSpPr>
          <p:cNvPr id="74" name="Text Box 35"/>
          <p:cNvSpPr/>
          <p:nvPr/>
        </p:nvSpPr>
        <p:spPr>
          <a:xfrm>
            <a:off x="7651800" y="630360"/>
            <a:ext cx="29527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ADM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AGESC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AID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Amici di Chiar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ANFFAS Onlus - Vogher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ANOF Vogher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Associazione “ A. Maragliano”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Associazione ANTE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Associazione AUSER Vogher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Associazione “ Dimbalente”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Associazione “INSIEME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Associazione “OLTRE NOI”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Associazione Pavese Parkinsoniani – Sez. di Voghe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Associazione per la ricerca tumori cerebrali infantil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Associazione “Pro Familia” Maria Teresa Spinell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Associazione “Talita’Kum”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Atletica Pave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AV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Caritas Diocesana e Caritas Parrocchial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Casa del Pane - Asilo Notturno Pensionato Zanabon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CAV  - Centro Accoglienza alla Vit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Centro Anziani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Centro Consulenza alla Coppia e alla Famigli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Associazione Familiare Cantiere Famigli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CIF – Centro Italiano Femmini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Comitato Soci Coop Voghe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Cooperativa 38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Cooperativa A.B.E.T.E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Cooperativa CODAMS DUE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Cooperative C.A.S.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C.R.I. – Comitato Locale Voghe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Emergenc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ENP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Fondazione ADOLESC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Fondaz. Terre des hommes Italia – Sez. di  Voghe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Illben Saharawi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Movimento Cristiano Lavoratori - Voghe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O.F.T.A.L.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Opera Nomadi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Opera San Vincenz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Peace Gam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Protezione Civile Voghe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Fondazione San Germano Onlus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SOMS Vogher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UNICEF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Arial"/>
              </a:rPr>
              <a:t>UNITRE Vogher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38"/>
          <p:cNvSpPr/>
          <p:nvPr/>
        </p:nvSpPr>
        <p:spPr>
          <a:xfrm>
            <a:off x="3780000" y="1135080"/>
            <a:ext cx="3384360" cy="14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100" spc="-1" strike="noStrike">
                <a:solidFill>
                  <a:srgbClr val="0000ff"/>
                </a:solidFill>
                <a:latin typeface="Arial"/>
              </a:rPr>
              <a:t>ore 9,30 -  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Apertura stand delle Associazioni di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                   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Volontaria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               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-   Esposizione degli elaborati degli studenti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                   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vogheresi sul tema “Voghera senz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                   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volontariato, come sarebbe?”  e dipinti de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                   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detenuti della Casa Circondaria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100" spc="-1" strike="noStrike">
                <a:solidFill>
                  <a:srgbClr val="0000ff"/>
                </a:solidFill>
                <a:latin typeface="Arial"/>
              </a:rPr>
              <a:t>ore 11,00 - 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Le Associazioni di Volontariato incontrano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gli studenti delle Scuole cittad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9"/>
          <p:cNvSpPr/>
          <p:nvPr/>
        </p:nvSpPr>
        <p:spPr>
          <a:xfrm>
            <a:off x="3774960" y="2541600"/>
            <a:ext cx="3587760" cy="25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100" spc="-1" strike="noStrike">
                <a:solidFill>
                  <a:srgbClr val="0000ff"/>
                </a:solidFill>
                <a:latin typeface="Arial"/>
              </a:rPr>
              <a:t>ore 15,00 - 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Animazioni, giochi, musica in collaborazion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con AGESCI, Giocoleria, Pionieri C.R.I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4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100" spc="-1" strike="noStrike">
                <a:solidFill>
                  <a:srgbClr val="0000ff"/>
                </a:solidFill>
                <a:latin typeface="Arial"/>
              </a:rPr>
              <a:t>ore 16,00 -  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Merenda con cioccolata offerta dal Comita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C.R.I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400" spc="-1" strike="noStrike">
                <a:solidFill>
                  <a:srgbClr val="0000ff"/>
                </a:solidFill>
                <a:latin typeface="Arial"/>
              </a:rPr>
              <a:t>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100" spc="-1" strike="noStrike">
                <a:solidFill>
                  <a:srgbClr val="0000ff"/>
                </a:solidFill>
                <a:latin typeface="Arial"/>
              </a:rPr>
              <a:t>dalle ore 18,30 alle ore 2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200" spc="-1" strike="noStrike">
                <a:solidFill>
                  <a:srgbClr val="0000ff"/>
                </a:solidFill>
                <a:latin typeface="Arial"/>
              </a:rPr>
              <a:t>                 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Musica sotto i portici” – incontri con gli Alliev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della Scuola di Musica, Kelevra, Break Point e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altri musicisti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100" spc="-1" strike="noStrike">
                <a:solidFill>
                  <a:srgbClr val="0000ff"/>
                </a:solidFill>
                <a:latin typeface="Arial"/>
              </a:rPr>
              <a:t>ore 19,00 - </a:t>
            </a:r>
            <a:r>
              <a:rPr b="0" lang="it-IT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Stand gastronomici del G.A.S. di Voghera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(Gruppo di Acquisto Solidale), Associazion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Dimbalente, Centro Culturale Islamico  -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                     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Chiosco farinata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100" spc="-1" strike="noStrike">
                <a:solidFill>
                  <a:srgbClr val="0000ff"/>
                </a:solidFill>
                <a:latin typeface="Arial"/>
              </a:rPr>
              <a:t>ore 23,30 -  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Chiusura del FestiV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0"/>
          <p:cNvSpPr/>
          <p:nvPr/>
        </p:nvSpPr>
        <p:spPr>
          <a:xfrm>
            <a:off x="3843360" y="5584680"/>
            <a:ext cx="3198960" cy="10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100" spc="-1" strike="noStrike">
                <a:solidFill>
                  <a:srgbClr val="0000ff"/>
                </a:solidFill>
                <a:latin typeface="Arial"/>
              </a:rPr>
              <a:t>dal 24 al 30 settembre, </a:t>
            </a:r>
            <a:r>
              <a:rPr b="1" lang="it-IT" sz="1100" spc="-1" strike="noStrike">
                <a:solidFill>
                  <a:srgbClr val="0000ff"/>
                </a:solidFill>
                <a:latin typeface="Arial"/>
              </a:rPr>
              <a:t>Mostra Fotografica “IMMAGINI DEL VOLONTARIATO”</a:t>
            </a:r>
            <a:r>
              <a:rPr b="0" lang="it-IT" sz="1100" spc="-1" strike="noStrike">
                <a:solidFill>
                  <a:srgbClr val="0000ff"/>
                </a:solidFill>
                <a:latin typeface="Arial"/>
              </a:rPr>
              <a:t>                             presso la </a:t>
            </a:r>
            <a:r>
              <a:rPr b="1" lang="it-IT" sz="1100" spc="-1" strike="noStrike">
                <a:solidFill>
                  <a:srgbClr val="0000ff"/>
                </a:solidFill>
                <a:latin typeface="Arial"/>
              </a:rPr>
              <a:t>Biblioteca di Via Gramsci</a:t>
            </a:r>
            <a:r>
              <a:rPr b="0" lang="it-IT" sz="1100" spc="-1" strike="noStrike">
                <a:solidFill>
                  <a:srgbClr val="0000ff"/>
                </a:solidFill>
                <a:latin typeface="Arial"/>
              </a:rPr>
              <a:t> a cura del  </a:t>
            </a:r>
            <a:r>
              <a:rPr b="1" lang="it-IT" sz="1100" spc="-1" strike="noStrike">
                <a:solidFill>
                  <a:srgbClr val="0000ff"/>
                </a:solidFill>
                <a:latin typeface="Arial"/>
              </a:rPr>
              <a:t>Centro Italiano Femminile</a:t>
            </a:r>
            <a:r>
              <a:rPr b="0" lang="it-IT" sz="11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100" spc="-1" strike="noStrike">
                <a:solidFill>
                  <a:srgbClr val="0000ff"/>
                </a:solidFill>
                <a:latin typeface="Arial"/>
              </a:rPr>
              <a:t>(orari di apertura: tutti i giorni 9-12 e 14,30-18)</a:t>
            </a:r>
            <a:r>
              <a:rPr b="0" lang="it-IT" sz="1000" spc="-1" strike="noStrike">
                <a:solidFill>
                  <a:srgbClr val="0000ff"/>
                </a:solidFill>
                <a:latin typeface="Arial"/>
              </a:rPr>
              <a:t>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1"/>
          <p:cNvSpPr/>
          <p:nvPr/>
        </p:nvSpPr>
        <p:spPr>
          <a:xfrm>
            <a:off x="49320" y="871560"/>
            <a:ext cx="3313080" cy="644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51"/>
              </a:spcBef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200" spc="-1" strike="noStrike">
                <a:solidFill>
                  <a:srgbClr val="0066ff"/>
                </a:solidFill>
                <a:latin typeface="Arial"/>
              </a:rPr>
              <a:t>   </a:t>
            </a:r>
            <a:r>
              <a:rPr b="0" lang="it-IT" sz="1200" spc="-1" strike="noStrike">
                <a:solidFill>
                  <a:srgbClr val="0066ff"/>
                </a:solidFill>
                <a:latin typeface="Arial"/>
              </a:rPr>
              <a:t>Nell’ambito dell’Anno Europeo del Volontariato, la Consulta per i Problemi Sociali del Comune di Voghera incontra i cittadini e gli studenti nella giornata “dedicata” al Volontariato per presentare dal vivo le attività che costituiscono un’importante risorsa per il territorio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2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lang="it-IT" sz="1200" spc="-1" strike="noStrike">
                <a:solidFill>
                  <a:srgbClr val="0066ff"/>
                </a:solidFill>
                <a:latin typeface="Arial"/>
              </a:rPr>
              <a:t>L’evento costituisce un’occasione per riscoprire che, anche nella nostra città, è possibile dedicare tempo ed energie per “dare e ricevere” nell’azione gratuita che costituisce l’essenza del Volontariato, promotore della cultura della solidarietà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2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lang="it-IT" sz="1200" spc="-1" strike="noStrike">
                <a:solidFill>
                  <a:srgbClr val="0066ff"/>
                </a:solidFill>
                <a:latin typeface="Arial"/>
              </a:rPr>
              <a:t>Un punto di arrivo per una nuova partenza, insieme. L’oggi del Volontariato è reso possibile grazie a quel ricco passato e a quelle radici religiose, ideologiche, culturali da cui attingere le sollecitazioni per ri-progettare il proprio “agire”: questo significa ri-pensare il rapporto con una comunità locale, nazionale, mondiale in continua trasformazione, per una sempre più significativa presenza negli scenari futu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lang="it-IT" sz="1200" spc="-1" strike="noStrike">
                <a:solidFill>
                  <a:srgbClr val="0066ff"/>
                </a:solidFill>
                <a:latin typeface="Arial"/>
              </a:rPr>
              <a:t>    </a:t>
            </a:r>
            <a:r>
              <a:rPr b="0" lang="it-IT" sz="1200" spc="-1" strike="noStrike">
                <a:solidFill>
                  <a:srgbClr val="0066ff"/>
                </a:solidFill>
                <a:latin typeface="Arial"/>
              </a:rPr>
              <a:t>Le Associazioni che aderiscono saranno presenti con gli stand in Piazza Duomo per illustrare in modo specifico la propria attività e daranno vita a momenti di conoscenza, di riflessione e di festa per invitare tutti, in particolare i giovani, ad accostarsi al mondo del Volontariat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89"/>
              </a:spcBef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i="1" lang="it-IT" sz="10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0" i="1" lang="it-IT" sz="1100" spc="-1" strike="noStrike">
                <a:solidFill>
                  <a:srgbClr val="0066ff"/>
                </a:solidFill>
                <a:latin typeface="Arial"/>
              </a:rPr>
              <a:t>La Consulta per  i Problemi Sociali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689"/>
              </a:spcBef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0" i="1" lang="it-IT" sz="1100" spc="-1" strike="noStrike">
                <a:solidFill>
                  <a:srgbClr val="0066ff"/>
                </a:solidFill>
                <a:latin typeface="Arial"/>
              </a:rPr>
              <a:t>       </a:t>
            </a:r>
            <a:r>
              <a:rPr b="0" i="1" lang="it-IT" sz="1100" spc="-1" strike="noStrike">
                <a:solidFill>
                  <a:srgbClr val="0066ff"/>
                </a:solidFill>
                <a:latin typeface="Arial"/>
              </a:rPr>
              <a:t>del Comune di Vogher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42"/>
          <p:cNvSpPr txBox="1"/>
          <p:nvPr/>
        </p:nvSpPr>
        <p:spPr>
          <a:xfrm>
            <a:off x="365040" y="270000"/>
            <a:ext cx="273708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Berlin Sans FB"/>
              </a:rPr>
              <a:t>Perchè FestiVOL</a:t>
            </a:r>
            <a:endParaRPr b="0" lang="en-US" sz="21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Berlin Sans FB"/>
              <a:ea typeface="Berlin Sans FB"/>
            </a:endParaRPr>
          </a:p>
        </p:txBody>
      </p:sp>
      <p:sp>
        <p:nvSpPr>
          <p:cNvPr id="80" name="AutoShape 43"/>
          <p:cNvSpPr/>
          <p:nvPr/>
        </p:nvSpPr>
        <p:spPr>
          <a:xfrm>
            <a:off x="55440" y="701640"/>
            <a:ext cx="3333960" cy="6516720"/>
          </a:xfrm>
          <a:custGeom>
            <a:avLst/>
            <a:gdLst>
              <a:gd name="textAreaLeft" fmla="*/ 162720 w 3333960"/>
              <a:gd name="textAreaRight" fmla="*/ 3171240 w 3333960"/>
              <a:gd name="textAreaTop" fmla="*/ 162720 h 6516720"/>
              <a:gd name="textAreaBottom" fmla="*/ 6354000 h 6516720"/>
            </a:gdLst>
            <a:ahLst/>
            <a:rect l="textAreaLeft" t="textAreaTop" r="textAreaRight" b="textAreaBottom"/>
            <a:pathLst>
              <a:path w="21600" h="42218">
                <a:moveTo>
                  <a:pt x="3600" y="0"/>
                </a:moveTo>
                <a:arcTo wR="3600" hR="3600" stAng="16200000" swAng="-5400000"/>
                <a:lnTo>
                  <a:pt x="0" y="38618"/>
                </a:lnTo>
                <a:arcTo wR="3600" hR="3600" stAng="10800000" swAng="-5400000"/>
                <a:lnTo>
                  <a:pt x="18000" y="4221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WordArt 44"/>
          <p:cNvSpPr txBox="1"/>
          <p:nvPr/>
        </p:nvSpPr>
        <p:spPr>
          <a:xfrm>
            <a:off x="4078440" y="318960"/>
            <a:ext cx="251928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1" strike="noStrike">
                <a:ln w="12600">
                  <a:solidFill>
                    <a:srgbClr val="000080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PROGRAMMA</a:t>
            </a:r>
            <a:endParaRPr b="0" lang="en-US" sz="2100" spc="1" strike="noStrike">
              <a:ln w="12600">
                <a:solidFill>
                  <a:srgbClr val="000080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  <p:sp>
        <p:nvSpPr>
          <p:cNvPr id="82" name="Text Box 46"/>
          <p:cNvSpPr/>
          <p:nvPr/>
        </p:nvSpPr>
        <p:spPr>
          <a:xfrm>
            <a:off x="4014720" y="6518160"/>
            <a:ext cx="2849760" cy="968760"/>
          </a:xfrm>
          <a:prstGeom prst="rect">
            <a:avLst/>
          </a:prstGeom>
          <a:noFill/>
          <a:ln w="0">
            <a:noFill/>
          </a:ln>
          <a:effectLst>
            <a:outerShdw dist="12600" dir="54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1" lang="it-IT" sz="1000" spc="-1" strike="noStrike">
                <a:solidFill>
                  <a:srgbClr val="ff0000"/>
                </a:solidFill>
                <a:latin typeface="Arial"/>
              </a:rPr>
              <a:t>UN SENTITO RINGRAZIAMENTO                            DA PARTE DELLE ASSOCIAZIONI  A TUTTI COLORO CHE SOSTENGONO E  AIUTANO FATTIVAMENTE  IL VOLONTARIA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47"/>
          <p:cNvSpPr/>
          <p:nvPr/>
        </p:nvSpPr>
        <p:spPr>
          <a:xfrm>
            <a:off x="3898800" y="6532560"/>
            <a:ext cx="3097440" cy="7840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WordArt 48"/>
          <p:cNvSpPr txBox="1"/>
          <p:nvPr/>
        </p:nvSpPr>
        <p:spPr>
          <a:xfrm>
            <a:off x="4419720" y="966960"/>
            <a:ext cx="1800000" cy="14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8b8bff"/>
                </a:solidFill>
                <a:latin typeface="Arial"/>
              </a:rPr>
              <a:t>Piazza Duomo</a:t>
            </a:r>
            <a:endParaRPr b="0" lang="en-US" sz="2100" spc="1" strike="noStrike">
              <a:ln w="12600">
                <a:solidFill>
                  <a:srgbClr val="0000ff"/>
                </a:solidFill>
                <a:miter/>
              </a:ln>
              <a:solidFill>
                <a:srgbClr val="8b8bff"/>
              </a:solidFill>
              <a:latin typeface="Arial"/>
              <a:ea typeface="Arial"/>
            </a:endParaRPr>
          </a:p>
        </p:txBody>
      </p:sp>
      <p:sp>
        <p:nvSpPr>
          <p:cNvPr id="85" name="Text Box 49"/>
          <p:cNvSpPr/>
          <p:nvPr/>
        </p:nvSpPr>
        <p:spPr>
          <a:xfrm>
            <a:off x="3774960" y="5002200"/>
            <a:ext cx="3313080" cy="565920"/>
          </a:xfrm>
          <a:prstGeom prst="rect">
            <a:avLst/>
          </a:prstGeom>
          <a:noFill/>
          <a:ln w="9360">
            <a:solidFill>
              <a:srgbClr val="0000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1" lang="it-IT" sz="1100" spc="-1" strike="noStrike">
                <a:solidFill>
                  <a:srgbClr val="00007a"/>
                </a:solidFill>
                <a:latin typeface="Arial"/>
              </a:rPr>
              <a:t>INIZIATIVA EMERGENZA PROFUGHI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1057320"/>
                <a:tab algn="l" pos="2114640"/>
                <a:tab algn="l" pos="3171960"/>
                <a:tab algn="l" pos="4229280"/>
                <a:tab algn="l" pos="5286240"/>
                <a:tab algn="l" pos="6343560"/>
                <a:tab algn="l" pos="7400880"/>
                <a:tab algn="l" pos="8458200"/>
                <a:tab algn="l" pos="9515520"/>
                <a:tab algn="l" pos="10572840"/>
              </a:tabLst>
            </a:pPr>
            <a:r>
              <a:rPr b="1" lang="it-IT" sz="1000" spc="-1" strike="noStrike">
                <a:solidFill>
                  <a:srgbClr val="00007a"/>
                </a:solidFill>
                <a:latin typeface="Arial"/>
              </a:rPr>
              <a:t>Punto di raccolta di capi di vestiario, prodotti per l’igiene personale e biciclet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50"/>
          <p:cNvSpPr/>
          <p:nvPr/>
        </p:nvSpPr>
        <p:spPr>
          <a:xfrm>
            <a:off x="3774960" y="5624640"/>
            <a:ext cx="108000" cy="900000"/>
          </a:xfrm>
          <a:custGeom>
            <a:avLst/>
            <a:gdLst>
              <a:gd name="textAreaLeft" fmla="*/ 0 w 108000"/>
              <a:gd name="textAreaRight" fmla="*/ 108360 w 10800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020" y="0"/>
                </a:lnTo>
                <a:lnTo>
                  <a:pt x="21600" y="10800"/>
                </a:lnTo>
                <a:lnTo>
                  <a:pt x="902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51"/>
          <p:cNvSpPr/>
          <p:nvPr/>
        </p:nvSpPr>
        <p:spPr>
          <a:xfrm flipH="1">
            <a:off x="6977160" y="5624640"/>
            <a:ext cx="108000" cy="900000"/>
          </a:xfrm>
          <a:custGeom>
            <a:avLst/>
            <a:gdLst>
              <a:gd name="textAreaLeft" fmla="*/ 360 w 108000"/>
              <a:gd name="textAreaRight" fmla="*/ 108720 w 108000"/>
              <a:gd name="textAreaTop" fmla="*/ 0 h 900000"/>
              <a:gd name="textAreaBottom" fmla="*/ 900360 h 900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9020" y="0"/>
                </a:lnTo>
                <a:lnTo>
                  <a:pt x="21600" y="10800"/>
                </a:lnTo>
                <a:lnTo>
                  <a:pt x="902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21T12:07:44Z</dcterms:created>
  <dc:creator>Also</dc:creator>
  <dc:description/>
  <dc:language>en-US</dc:language>
  <cp:lastModifiedBy>marcella</cp:lastModifiedBy>
  <dcterms:modified xsi:type="dcterms:W3CDTF">2011-09-12T09:28:24Z</dcterms:modified>
  <cp:revision>75</cp:revision>
  <dc:subject/>
  <dc:title>Diapositiva 1</dc:title>
</cp:coreProperties>
</file>