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691813" cy="74517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28640" y="744120"/>
            <a:ext cx="5340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FEC4-A07B-4E74-A408-E218408358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728640" y="744480"/>
            <a:ext cx="534024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195A-9B40-48F5-A52D-7E32D95964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FE1-8E9F-468A-92E8-5AD1980F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9623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08480"/>
            <a:ext cx="9623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323-8165-43D7-B6E5-D1E01E23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8E8-7DFF-41F1-92B3-17943332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52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52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0848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0848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0848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86C-E200-480F-A4E7-35B7565C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520"/>
            <a:ext cx="962352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777-E413-404B-8BC3-E623622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962352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E7C-AD69-4842-BE7A-CF96A1A8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361-D506-49F3-9DC4-5D94E06C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B7D-F8B6-4F3E-8343-EA229D8D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298080"/>
            <a:ext cx="9623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59F-ACE6-4EB8-9874-DB788A1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768-E9F2-4D74-8558-CDA77E2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681-B4A4-40FC-B5C4-63BEF9C8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08480"/>
            <a:ext cx="9623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C00-0AF8-4AF3-A7D3-1FACFB9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520"/>
            <a:ext cx="962352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30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64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112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7960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7960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7960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786360"/>
            <a:ext cx="2494080" cy="517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786360"/>
            <a:ext cx="3387600" cy="517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4400" y="6786360"/>
            <a:ext cx="2494080" cy="517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FAD-3296-43BB-8B9A-97BFEAAC23E7}" type="slidenum">
              <a:rPr b="0" lang="it-IT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-291960" y="0"/>
            <a:ext cx="11218680" cy="163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-249120" y="7369200"/>
            <a:ext cx="11164680" cy="12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7616880" y="174600"/>
            <a:ext cx="0" cy="427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7616880" y="4389480"/>
            <a:ext cx="0" cy="2981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6"/>
          <p:cNvSpPr txBox="1"/>
          <p:nvPr/>
        </p:nvSpPr>
        <p:spPr>
          <a:xfrm>
            <a:off x="8505720" y="5743440"/>
            <a:ext cx="13273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Voghera</a:t>
            </a:r>
            <a:endParaRPr b="0" lang="en-US" sz="21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sp>
        <p:nvSpPr>
          <p:cNvPr id="53" name="WordArt 35"/>
          <p:cNvSpPr txBox="1"/>
          <p:nvPr/>
        </p:nvSpPr>
        <p:spPr>
          <a:xfrm>
            <a:off x="7792920" y="3510000"/>
            <a:ext cx="277200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"/>
              </a:rPr>
              <a:t>Volontariato a Voghera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"/>
              <a:ea typeface="Berlin Sans FB"/>
            </a:endParaRPr>
          </a:p>
        </p:txBody>
      </p:sp>
      <p:sp>
        <p:nvSpPr>
          <p:cNvPr id="54" name="WordArt 36"/>
          <p:cNvSpPr txBox="1"/>
          <p:nvPr/>
        </p:nvSpPr>
        <p:spPr>
          <a:xfrm>
            <a:off x="7969320" y="4043520"/>
            <a:ext cx="241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insieme ai cittadini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contro le povertà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7867800" y="6535800"/>
            <a:ext cx="2592360" cy="398880"/>
          </a:xfrm>
          <a:prstGeom prst="rect">
            <a:avLst/>
          </a:prstGeom>
          <a:solidFill>
            <a:srgbClr val="d9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c"/>
                </a:solidFill>
                <a:latin typeface="Calibri"/>
              </a:rPr>
              <a:t>Sabato 1 ottobre 2011</a:t>
            </a:r>
            <a:r>
              <a:rPr b="1" i="1" lang="it-IT" sz="1800" spc="-1" strike="noStrike">
                <a:solidFill>
                  <a:srgbClr val="0000a2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volontariato"/>
          <p:cNvPicPr/>
          <p:nvPr/>
        </p:nvPicPr>
        <p:blipFill>
          <a:blip r:embed="rId1"/>
          <a:stretch/>
        </p:blipFill>
        <p:spPr>
          <a:xfrm>
            <a:off x="8875800" y="1563840"/>
            <a:ext cx="1224000" cy="866520"/>
          </a:xfrm>
          <a:prstGeom prst="rect">
            <a:avLst/>
          </a:prstGeom>
          <a:ln w="0">
            <a:noFill/>
          </a:ln>
        </p:spPr>
      </p:pic>
      <p:sp>
        <p:nvSpPr>
          <p:cNvPr id="57" name="WordArt 39"/>
          <p:cNvSpPr txBox="1"/>
          <p:nvPr/>
        </p:nvSpPr>
        <p:spPr>
          <a:xfrm>
            <a:off x="7786800" y="2070000"/>
            <a:ext cx="28080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33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erlin Sans FB Demi"/>
              </a:rPr>
              <a:t>festiVOL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erlin Sans FB Demi"/>
              <a:ea typeface="Berlin Sans FB Demi"/>
            </a:endParaRPr>
          </a:p>
        </p:txBody>
      </p:sp>
      <p:pic>
        <p:nvPicPr>
          <p:cNvPr id="58" name="Picture 42" descr=""/>
          <p:cNvPicPr/>
          <p:nvPr/>
        </p:nvPicPr>
        <p:blipFill>
          <a:blip r:embed="rId4"/>
          <a:stretch/>
        </p:blipFill>
        <p:spPr>
          <a:xfrm>
            <a:off x="7199280" y="471600"/>
            <a:ext cx="393840" cy="503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7647120" y="457200"/>
            <a:ext cx="266364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Bell MT"/>
              </a:rPr>
              <a:t>Consulta per i Problemi Sociali del Comune di Vogh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4"/>
          <p:cNvSpPr txBox="1"/>
          <p:nvPr/>
        </p:nvSpPr>
        <p:spPr>
          <a:xfrm>
            <a:off x="8143920" y="4878360"/>
            <a:ext cx="20494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PROGRAMMA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sp>
        <p:nvSpPr>
          <p:cNvPr id="61" name="Text Box 47"/>
          <p:cNvSpPr/>
          <p:nvPr/>
        </p:nvSpPr>
        <p:spPr>
          <a:xfrm>
            <a:off x="3978360" y="41464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a2"/>
                </a:solidFill>
                <a:latin typeface="Berlin Sans FB"/>
              </a:rPr>
              <a:t>In collaborazione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>
            <a:off x="289080" y="502272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Berlin Sans FB"/>
              </a:rPr>
              <a:t>L’unità si realizza nella                           diver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7" descr="volontariato"/>
          <p:cNvPicPr/>
          <p:nvPr/>
        </p:nvPicPr>
        <p:blipFill>
          <a:blip r:embed="rId5"/>
          <a:stretch/>
        </p:blipFill>
        <p:spPr>
          <a:xfrm rot="21172200">
            <a:off x="946080" y="3987360"/>
            <a:ext cx="1368360" cy="9684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8"/>
          <p:cNvSpPr/>
          <p:nvPr/>
        </p:nvSpPr>
        <p:spPr>
          <a:xfrm>
            <a:off x="407880" y="4892760"/>
            <a:ext cx="2303640" cy="1396800"/>
          </a:xfrm>
          <a:custGeom>
            <a:avLst/>
            <a:gdLst>
              <a:gd name="textAreaLeft" fmla="*/ 537120 w 2303640"/>
              <a:gd name="textAreaRight" fmla="*/ 1765800 w 2303640"/>
              <a:gd name="textAreaTop" fmla="*/ 147240 h 1396800"/>
              <a:gd name="textAreaBottom" fmla="*/ 884520 h 1396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3978360" y="5800680"/>
            <a:ext cx="273672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a2"/>
                </a:solidFill>
                <a:latin typeface="Berlin Sans FB"/>
              </a:rPr>
              <a:t>Patrocinio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Berlin Sans FB"/>
              </a:rPr>
              <a:t>COMUNE DI VOGHERA  </a:t>
            </a:r>
            <a:r>
              <a:rPr b="0" lang="it-IT" sz="1300" spc="-1" strike="noStrike">
                <a:solidFill>
                  <a:srgbClr val="0033cc"/>
                </a:solidFill>
                <a:latin typeface="Berlin Sans FB"/>
              </a:rPr>
              <a:t>Assessorato Politiche Social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0" descr="csv_g"/>
          <p:cNvPicPr/>
          <p:nvPr/>
        </p:nvPicPr>
        <p:blipFill>
          <a:blip r:embed="rId6"/>
          <a:stretch/>
        </p:blipFill>
        <p:spPr>
          <a:xfrm>
            <a:off x="4871880" y="4429080"/>
            <a:ext cx="954360" cy="95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1" descr="logo_anno_europeo_volontariato"/>
          <p:cNvPicPr/>
          <p:nvPr/>
        </p:nvPicPr>
        <p:blipFill>
          <a:blip r:embed="rId7"/>
          <a:stretch/>
        </p:blipFill>
        <p:spPr>
          <a:xfrm>
            <a:off x="271440" y="2259000"/>
            <a:ext cx="2610000" cy="1251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2"/>
          <p:cNvSpPr txBox="1"/>
          <p:nvPr/>
        </p:nvSpPr>
        <p:spPr>
          <a:xfrm>
            <a:off x="8299440" y="6102360"/>
            <a:ext cx="17604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Piazza Duomo</a:t>
            </a:r>
            <a:endParaRPr b="0" lang="en-US" sz="21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2"/>
          <p:cNvSpPr txBox="1"/>
          <p:nvPr/>
        </p:nvSpPr>
        <p:spPr>
          <a:xfrm>
            <a:off x="7937640" y="237960"/>
            <a:ext cx="2187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d9ecff"/>
                </a:solidFill>
                <a:latin typeface="Arial"/>
              </a:rPr>
              <a:t>Associazioni partecipanti</a:t>
            </a:r>
            <a:endParaRPr b="0" lang="en-US" sz="2100" spc="1" strike="noStrike">
              <a:ln w="12600">
                <a:solidFill>
                  <a:srgbClr val="0000ff"/>
                </a:solidFill>
                <a:miter/>
              </a:ln>
              <a:solidFill>
                <a:srgbClr val="d9ecff"/>
              </a:solidFill>
              <a:latin typeface="Arial"/>
              <a:ea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0"/>
            <a:ext cx="10693440" cy="163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-31680" y="7361280"/>
            <a:ext cx="10782360" cy="92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7448400" y="573120"/>
            <a:ext cx="3189600" cy="6653160"/>
          </a:xfrm>
          <a:custGeom>
            <a:avLst/>
            <a:gdLst>
              <a:gd name="textAreaLeft" fmla="*/ 155520 w 3189600"/>
              <a:gd name="textAreaRight" fmla="*/ 3034080 w 3189600"/>
              <a:gd name="textAreaTop" fmla="*/ 155520 h 6653160"/>
              <a:gd name="textAreaBottom" fmla="*/ 6497640 h 6653160"/>
            </a:gdLst>
            <a:ahLst/>
            <a:rect l="textAreaLeft" t="textAreaTop" r="textAreaRight" b="textAreaBottom"/>
            <a:pathLst>
              <a:path w="21600" h="45053">
                <a:moveTo>
                  <a:pt x="3600" y="0"/>
                </a:moveTo>
                <a:arcTo wR="3600" hR="3600" stAng="16200000" swAng="-5400000"/>
                <a:lnTo>
                  <a:pt x="0" y="41453"/>
                </a:lnTo>
                <a:arcTo wR="3600" hR="3600" stAng="10800000" swAng="-5400000"/>
                <a:lnTo>
                  <a:pt x="18000" y="450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32"/>
          <p:cNvSpPr txBox="1"/>
          <p:nvPr/>
        </p:nvSpPr>
        <p:spPr>
          <a:xfrm>
            <a:off x="3965400" y="701640"/>
            <a:ext cx="273708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d9ecff"/>
                </a:solidFill>
                <a:latin typeface="Arial"/>
              </a:rPr>
              <a:t>Sabato 1 ottobre 2011</a:t>
            </a:r>
            <a:endParaRPr b="0" lang="en-US" sz="2100" spc="1" strike="noStrike">
              <a:ln w="12600">
                <a:solidFill>
                  <a:srgbClr val="0000ff"/>
                </a:solidFill>
                <a:miter/>
              </a:ln>
              <a:solidFill>
                <a:srgbClr val="d9ecff"/>
              </a:solidFill>
              <a:latin typeface="Arial"/>
              <a:ea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7651800" y="630360"/>
            <a:ext cx="295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D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GESC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mici di Chi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NFFAS Onlus -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NOF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 A. Maragliano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ANTE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AUSER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 Dimbalente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INSIEME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OLTRE NOI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Pavese Parkinsoniani – Sez. di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per la ricerca tumori cerebrali infanti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Pro Familia” Maria Teresa Spinel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Talita’Kum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tletica Pave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V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aritas Diocesana e Caritas Parrocchial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asa del Pane - Asilo Notturno Pensionato Zanabo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AV  - Centro Accoglienza alla V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entro Anziani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entro Consulenza alla Coppia e alla Famig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Familiare Cantiere Famigl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IF – Centro Italiano Femmin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mitato Soci Coop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a 38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a A.B.E.T.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a CODAMS DU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e C.A.S.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.R.I. – Comitato Locale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EN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Fondazione ADOLESC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Fondaz. Terre des hommes Italia – Sez. di 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Illben Saharaw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Movimento Cristiano Lavoratori -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O.F.T.A.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Opera Noma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Opera San Vincen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Peace Ga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Protezione Civile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Fondazione San Germano Onl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OMS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NICE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NITRE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8"/>
          <p:cNvSpPr/>
          <p:nvPr/>
        </p:nvSpPr>
        <p:spPr>
          <a:xfrm>
            <a:off x="3780000" y="1135080"/>
            <a:ext cx="33843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9,30 -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Apertura stand delle Associazioni di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Volontari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-   Esposizione degli elaborati degli studenti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vogheresi sul tema “Voghera sen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volontariato, come sarebbe?”  e dipinti de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detenuti della Casa Circondar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1,00 -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Le Associazioni di Volontariato incontran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gli studenti delle Scuole cittad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3774960" y="2541600"/>
            <a:ext cx="358776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5,00 -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Animazioni, giochi, musica in collabor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on AGESCI, Giocoleria, Pionieri C.R.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6,00 -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Merenda con cioccolata offerta dal Comita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.R.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dalle ore 18,30 alle ore 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Musica sotto i portici” – incontri con gli Alliev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della Scuola di Musica, Kelevra, Break Point e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altri musicisti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9,00 - </a:t>
            </a:r>
            <a:r>
              <a:rPr b="0" lang="it-IT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Stand gastronomici del G.A.S. di Vogher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(Gruppo di Acquisto Solidale), Associ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Dimbalente, Centro Culturale Islamico 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hiosco farinat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23,30 -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hiusura del Festi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3843360" y="5584680"/>
            <a:ext cx="319896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dal 24 al 30 settembre, </a:t>
            </a:r>
            <a:r>
              <a:rPr b="1" lang="it-IT" sz="1100" spc="-1" strike="noStrike">
                <a:solidFill>
                  <a:srgbClr val="0000ff"/>
                </a:solidFill>
                <a:latin typeface="Arial"/>
              </a:rPr>
              <a:t>Mostra Fotografica “IMMAGINI DEL VOLONTARIATO”</a:t>
            </a: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                             presso la </a:t>
            </a:r>
            <a:r>
              <a:rPr b="1" lang="it-IT" sz="1100" spc="-1" strike="noStrike">
                <a:solidFill>
                  <a:srgbClr val="0000ff"/>
                </a:solidFill>
                <a:latin typeface="Arial"/>
              </a:rPr>
              <a:t>Biblioteca di Via Gramsci</a:t>
            </a: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 a cura del  </a:t>
            </a:r>
            <a:r>
              <a:rPr b="1" lang="it-IT" sz="1100" spc="-1" strike="noStrike">
                <a:solidFill>
                  <a:srgbClr val="0000ff"/>
                </a:solidFill>
                <a:latin typeface="Arial"/>
              </a:rPr>
              <a:t>Centro Italiano Femminile</a:t>
            </a: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(orari di apertura: tutti i giorni 9-12 e 14,30-18)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1"/>
          <p:cNvSpPr/>
          <p:nvPr/>
        </p:nvSpPr>
        <p:spPr>
          <a:xfrm>
            <a:off x="49320" y="871560"/>
            <a:ext cx="3313080" cy="64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Nell’ambito dell’Anno Europeo del Volontariato, la Consulta per i Problemi Sociali del Comune di Voghera incontra i cittadini e gli studenti nella giornata “dedicata” al Volontariato per presentare dal vivo le attività che costituiscono un’importante risorsa per il territori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L’evento costituisce un’occasione per riscoprire che, anche nella nostra città, è possibile dedicare tempo ed energie per “dare e ricevere” nell’azione gratuita che costituisce l’essenza del Volontariato, promotore della cultura della solidarietà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Un punto di arrivo per una nuova partenza, insieme. L’oggi del Volontariato è reso possibile grazie a quel ricco passato e a quelle radici religiose, ideologiche, culturali da cui attingere le sollecitazioni per ri-progettare il proprio “agire”: questo significa ri-pensare il rapporto con una comunità locale, nazionale, mondiale in continua trasformazione, per una sempre più significativa presenza negli scenar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Le Associazioni che aderiscono saranno presenti con gli stand in Piazza Duomo per illustrare in modo specifico la propria attività e daranno vita a momenti di conoscenza, di riflessione e di festa per invitare tutti, in particolare i giovani, ad accostarsi al mondo del Volontaria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i="1" lang="it-IT" sz="1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i="1" lang="it-IT" sz="1100" spc="-1" strike="noStrike">
                <a:solidFill>
                  <a:srgbClr val="0066ff"/>
                </a:solidFill>
                <a:latin typeface="Arial"/>
              </a:rPr>
              <a:t>La Consulta per  i Problemi Sociali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i="1" lang="it-IT" sz="11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i="1" lang="it-IT" sz="1100" spc="-1" strike="noStrike">
                <a:solidFill>
                  <a:srgbClr val="0066ff"/>
                </a:solidFill>
                <a:latin typeface="Arial"/>
              </a:rPr>
              <a:t>del Comune di Voghe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2"/>
          <p:cNvSpPr txBox="1"/>
          <p:nvPr/>
        </p:nvSpPr>
        <p:spPr>
          <a:xfrm>
            <a:off x="365040" y="270000"/>
            <a:ext cx="273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Perchè FestiVOL</a:t>
            </a:r>
            <a:endParaRPr b="0" lang="en-US" sz="21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</p:txBody>
      </p:sp>
      <p:sp>
        <p:nvSpPr>
          <p:cNvPr id="80" name="AutoShape 43"/>
          <p:cNvSpPr/>
          <p:nvPr/>
        </p:nvSpPr>
        <p:spPr>
          <a:xfrm>
            <a:off x="55440" y="701640"/>
            <a:ext cx="3333960" cy="6516720"/>
          </a:xfrm>
          <a:custGeom>
            <a:avLst/>
            <a:gdLst>
              <a:gd name="textAreaLeft" fmla="*/ 162720 w 3333960"/>
              <a:gd name="textAreaRight" fmla="*/ 3171240 w 3333960"/>
              <a:gd name="textAreaTop" fmla="*/ 162720 h 6516720"/>
              <a:gd name="textAreaBottom" fmla="*/ 6354000 h 6516720"/>
            </a:gdLst>
            <a:ahLst/>
            <a:rect l="textAreaLeft" t="textAreaTop" r="textAreaRight" b="textAreaBottom"/>
            <a:pathLst>
              <a:path w="21600" h="42218">
                <a:moveTo>
                  <a:pt x="3600" y="0"/>
                </a:moveTo>
                <a:arcTo wR="3600" hR="3600" stAng="16200000" swAng="-5400000"/>
                <a:lnTo>
                  <a:pt x="0" y="38618"/>
                </a:lnTo>
                <a:arcTo wR="3600" hR="3600" stAng="10800000" swAng="-5400000"/>
                <a:lnTo>
                  <a:pt x="18000" y="422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4"/>
          <p:cNvSpPr txBox="1"/>
          <p:nvPr/>
        </p:nvSpPr>
        <p:spPr>
          <a:xfrm>
            <a:off x="4078440" y="318960"/>
            <a:ext cx="25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ROGRAMMA</a:t>
            </a:r>
            <a:endParaRPr b="0" lang="en-US" sz="21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4014720" y="6518160"/>
            <a:ext cx="2849760" cy="968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Arial"/>
              </a:rPr>
              <a:t>UN SENTITO RINGRAZIAMENTO                            DA PARTE DELLE ASSOCIAZIONI  A TUTTI COLORO CHE SOSTENGONO E  AIUTANO FATTIVAMENTE  IL VOLONTARI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7"/>
          <p:cNvSpPr/>
          <p:nvPr/>
        </p:nvSpPr>
        <p:spPr>
          <a:xfrm>
            <a:off x="3898800" y="6532560"/>
            <a:ext cx="3097440" cy="78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8"/>
          <p:cNvSpPr txBox="1"/>
          <p:nvPr/>
        </p:nvSpPr>
        <p:spPr>
          <a:xfrm>
            <a:off x="4419720" y="966960"/>
            <a:ext cx="1800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8b8bff"/>
                </a:solidFill>
                <a:latin typeface="Arial"/>
              </a:rPr>
              <a:t>Piazza Duomo</a:t>
            </a:r>
            <a:endParaRPr b="0" lang="en-US" sz="2100" spc="1" strike="noStrike">
              <a:ln w="12600">
                <a:solidFill>
                  <a:srgbClr val="0000ff"/>
                </a:solidFill>
                <a:miter/>
              </a:ln>
              <a:solidFill>
                <a:srgbClr val="8b8bff"/>
              </a:solidFill>
              <a:latin typeface="Arial"/>
              <a:ea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774960" y="5002200"/>
            <a:ext cx="3313080" cy="565920"/>
          </a:xfrm>
          <a:prstGeom prst="rect">
            <a:avLst/>
          </a:prstGeom>
          <a:noFill/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it-IT" sz="1100" spc="-1" strike="noStrike">
                <a:solidFill>
                  <a:srgbClr val="00007a"/>
                </a:solidFill>
                <a:latin typeface="Arial"/>
              </a:rPr>
              <a:t>INIZIATIVA EMERGENZA PROFUGH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it-IT" sz="1000" spc="-1" strike="noStrike">
                <a:solidFill>
                  <a:srgbClr val="00007a"/>
                </a:solidFill>
                <a:latin typeface="Arial"/>
              </a:rPr>
              <a:t>Punto di raccolta di capi di vestiario, prodotti per l’igiene personale e bicicle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3774960" y="5624640"/>
            <a:ext cx="108000" cy="900000"/>
          </a:xfrm>
          <a:custGeom>
            <a:avLst/>
            <a:gdLst>
              <a:gd name="textAreaLeft" fmla="*/ 0 w 108000"/>
              <a:gd name="textAreaRight" fmla="*/ 108360 w 108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20" y="0"/>
                </a:lnTo>
                <a:lnTo>
                  <a:pt x="21600" y="10800"/>
                </a:lnTo>
                <a:lnTo>
                  <a:pt x="90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1"/>
          <p:cNvSpPr/>
          <p:nvPr/>
        </p:nvSpPr>
        <p:spPr>
          <a:xfrm flipH="1">
            <a:off x="6977160" y="5624640"/>
            <a:ext cx="108000" cy="900000"/>
          </a:xfrm>
          <a:custGeom>
            <a:avLst/>
            <a:gdLst>
              <a:gd name="textAreaLeft" fmla="*/ 360 w 108000"/>
              <a:gd name="textAreaRight" fmla="*/ 108720 w 108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20" y="0"/>
                </a:lnTo>
                <a:lnTo>
                  <a:pt x="21600" y="10800"/>
                </a:lnTo>
                <a:lnTo>
                  <a:pt x="90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2:07:44Z</dcterms:created>
  <dc:creator>Also</dc:creator>
  <dc:description/>
  <dc:language>en-US</dc:language>
  <cp:lastModifiedBy>marcella</cp:lastModifiedBy>
  <dcterms:modified xsi:type="dcterms:W3CDTF">2011-09-12T09:28:24Z</dcterms:modified>
  <cp:revision>75</cp:revision>
  <dc:subject/>
  <dc:title>Diapositiva 1</dc:title>
</cp:coreProperties>
</file>